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0ACE-0F29-4EC6-B645-8D8B859A9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3FAC-9DAE-4278-B3B7-0D6795AE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F985-8F06-4CD3-AB05-DF9B65BF6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3ED8-0A4A-48E2-A96E-DF22B01C1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F874-B26B-4F67-9AFE-7AB967EB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AC18-6BC3-47C8-B437-6C1F40C8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BD73-1E3A-424A-B6FB-F206DD78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5820-E88F-426F-A502-05F13F90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1BEF-F41C-494A-86C7-AB982FFD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C8C0-3038-4A21-BABE-59F68344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CADE-21BB-4AA1-97D4-DA7ED757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6D8F-A8F8-4532-841C-07E290E6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NCESU      MAI        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3D61-F28B-4D49-9C22-83D9AB231D4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42920" y="1628640"/>
            <a:ext cx="72010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. F. G. S. U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ttestation de Formation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ux Gestes et Soins d'urgence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3279600" y="4941720"/>
            <a:ext cx="24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êté du 3 mars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5BA7-C0F2-4299-94B6-11D14D4028D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985840" y="2660760"/>
            <a:ext cx="335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 FORME A QUOI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03C5-EBB8-4817-A883-F7EF4E378A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985840" y="0"/>
            <a:ext cx="282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I FORME A QUOI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620640"/>
            <a:ext cx="882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  3  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par les s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ructures de formation des professionnels de santé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ous la responsabilité du  médecin directeur scientifique et pédagogique d’un CESU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1557360"/>
            <a:ext cx="3600360" cy="1224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uels des C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iveaux 1  2  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03640" y="1628640"/>
            <a:ext cx="3600720" cy="12240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 INSTIT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veaux 1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852640"/>
            <a:ext cx="3957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PTES actuellement 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er  Urgence  Vital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er une partie des urgences potentiel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érience pédagogique/é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PLETER  PAR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ément technique Urg. Potentiel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isque collectif Niveau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ormation N R B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40320" y="3141720"/>
            <a:ext cx="37036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PTES actuellement à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roche pédagog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 é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PLETER  PAR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er  Urg.  Vitale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er  Urg. Potentiel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que collectif  Niveau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6369-0BD3-4F58-82EE-0ECE7E0CC8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196000" y="2373480"/>
            <a:ext cx="50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 PRIORITES DE FORM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DE45-DB47-45EC-85F8-F7C9D5F7E8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195640" y="260280"/>
            <a:ext cx="42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 PRIORITES DE 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720" y="11253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 court terme 200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1557360"/>
            <a:ext cx="3097080" cy="1224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s concern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79480" y="3160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2852640"/>
            <a:ext cx="2881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F.Init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3366"/>
                </a:solidFill>
                <a:latin typeface="Arial"/>
              </a:rPr>
              <a:t>AS,  Aux Pu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3366"/>
                </a:solidFill>
                <a:latin typeface="Arial"/>
              </a:rPr>
              <a:t>Ambulanci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3366"/>
                </a:solidFill>
                <a:latin typeface="Arial"/>
              </a:rPr>
              <a:t>Préleveur labo.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iveau 2 exig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ans le texte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orma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780000" y="1052640"/>
            <a:ext cx="4420800" cy="4485240"/>
            <a:chOff x="3780000" y="1052640"/>
            <a:chExt cx="4420800" cy="4485240"/>
          </a:xfrm>
        </p:grpSpPr>
        <p:sp>
          <p:nvSpPr>
            <p:cNvPr id="103" name=""/>
            <p:cNvSpPr/>
            <p:nvPr/>
          </p:nvSpPr>
          <p:spPr>
            <a:xfrm>
              <a:off x="5796360" y="1052640"/>
              <a:ext cx="24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 moyen  term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067280" y="2517840"/>
              <a:ext cx="246060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F.Initi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IFSI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Manip rad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Kiné……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14 profession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Titre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780000" y="1557360"/>
              <a:ext cx="3024000" cy="861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utr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STITU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6480000" y="1484280"/>
            <a:ext cx="2718360" cy="4053600"/>
            <a:chOff x="6480000" y="1484280"/>
            <a:chExt cx="2718360" cy="4053600"/>
          </a:xfrm>
        </p:grpSpPr>
        <p:sp>
          <p:nvSpPr>
            <p:cNvPr id="107" name=""/>
            <p:cNvSpPr/>
            <p:nvPr/>
          </p:nvSpPr>
          <p:spPr>
            <a:xfrm>
              <a:off x="6480000" y="1484280"/>
              <a:ext cx="2664000" cy="934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es personne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ctifs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951240" y="2517840"/>
              <a:ext cx="224712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F. C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4 an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niqu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……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4 profession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itre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2599-40E1-44FA-B2A3-0C36186F1D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967120" y="71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95240" y="2589120"/>
            <a:ext cx="545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PRISE EN COMPTE DES ACQ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8879-22FE-4101-A62A-A745CC8007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692360" y="333360"/>
            <a:ext cx="574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PRISE EN COMPTE DES ACQUIS  niveau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9080" y="836640"/>
            <a:ext cx="7395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t  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s contenus et durées des modules  art 6  à 9  peuvent êt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aptés aux acquis des formations antérieure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32000" y="2421000"/>
            <a:ext cx="2879640" cy="3603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GENCE VITALE 6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11640" y="2421000"/>
            <a:ext cx="2232000" cy="3603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G. Potentielle 3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43640" y="2421000"/>
            <a:ext cx="223200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isque Collect. 3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20" y="2421000"/>
            <a:ext cx="128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GSU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32000" y="3716280"/>
            <a:ext cx="2160360" cy="3603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GENCE VIT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84720" y="3716280"/>
            <a:ext cx="1800000" cy="43344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G. Potentiel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16720" y="5083200"/>
            <a:ext cx="2232000" cy="43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isque Collect. 3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80" y="3429000"/>
            <a:ext cx="1226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19640" y="5084640"/>
            <a:ext cx="863280" cy="4320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5084640"/>
            <a:ext cx="648000" cy="4320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200" y="5149800"/>
            <a:ext cx="301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mplément de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FPS avant 2007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03640" y="5084640"/>
            <a:ext cx="863640" cy="4320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el B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AC42-FF0B-43E5-B241-6EF6661636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693440" y="333360"/>
            <a:ext cx="479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PRISE EN COMPTE DES ACQUIS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29080" y="836640"/>
            <a:ext cx="7395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t  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s contenus et durées des modules  art 6  à 9  peuvent êt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aptés aux acquis des formations antérieure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87280" y="2205000"/>
            <a:ext cx="3024360" cy="3603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GENCE VITALE 6h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11640" y="2205000"/>
            <a:ext cx="2376360" cy="3603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G. Potentielle 3h+3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88000" y="2205000"/>
            <a:ext cx="244800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isque Collect. 3h+3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0" y="1989000"/>
            <a:ext cx="128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FGSU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21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58920" y="3141720"/>
            <a:ext cx="1944720" cy="4316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GENCE VIT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11640" y="3213000"/>
            <a:ext cx="2087640" cy="3603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G. Potentiel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88000" y="5229360"/>
            <a:ext cx="255600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isque Collect. 6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40" y="501336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  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95640" y="5229360"/>
            <a:ext cx="2016000" cy="504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AE+RCP equ 4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16360" y="4437000"/>
            <a:ext cx="564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xemple Complément de formation pour AFGSU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00720" y="5229360"/>
            <a:ext cx="1944360" cy="50472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el  casq .. 3h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068640"/>
            <a:ext cx="136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  F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éal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38C0-24AB-486A-8B40-771912FCA4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631600" y="352440"/>
            <a:ext cx="45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ATEGIE   des C E S 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6160" y="1433520"/>
            <a:ext cx="396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égie locale……….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12680" y="3068640"/>
            <a:ext cx="646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égie Départementale/Régionale 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51440" y="4505400"/>
            <a:ext cx="35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 C E S U ……….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F67F-D3AD-4105-9A83-05D57B2D84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703240" y="353880"/>
            <a:ext cx="316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atégie local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0" y="1268280"/>
            <a:ext cx="2376360" cy="648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ORMER C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-3240" y="2276640"/>
            <a:ext cx="2978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 l’impact de l’arrêté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 les instit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 TOUT l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traçabilité des form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iplôme offici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nc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 l’activité C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203640" y="1341360"/>
            <a:ext cx="2952720" cy="2858760"/>
            <a:chOff x="3203640" y="1341360"/>
            <a:chExt cx="2952720" cy="2858760"/>
          </a:xfrm>
        </p:grpSpPr>
        <p:sp>
          <p:nvSpPr>
            <p:cNvPr id="147" name=""/>
            <p:cNvSpPr/>
            <p:nvPr/>
          </p:nvSpPr>
          <p:spPr>
            <a:xfrm>
              <a:off x="3274920" y="1341360"/>
              <a:ext cx="2160720" cy="647640"/>
            </a:xfrm>
            <a:prstGeom prst="roundRect">
              <a:avLst>
                <a:gd name="adj" fmla="val 16667"/>
              </a:avLst>
            </a:prstGeom>
            <a:solidFill>
              <a:srgbClr val="00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CENS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03640" y="2276640"/>
              <a:ext cx="295272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es moyens exista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sponsable CES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ormateur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téri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ocau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crétariat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405480" y="1341360"/>
            <a:ext cx="2343240" cy="3236400"/>
            <a:chOff x="6405480" y="1341360"/>
            <a:chExt cx="2343240" cy="3236400"/>
          </a:xfrm>
        </p:grpSpPr>
        <p:sp>
          <p:nvSpPr>
            <p:cNvPr id="150" name=""/>
            <p:cNvSpPr/>
            <p:nvPr/>
          </p:nvSpPr>
          <p:spPr>
            <a:xfrm>
              <a:off x="6589800" y="1341360"/>
              <a:ext cx="2158920" cy="647640"/>
            </a:xfrm>
            <a:prstGeom prst="roundRect">
              <a:avLst>
                <a:gd name="adj" fmla="val 16667"/>
              </a:avLst>
            </a:prstGeom>
            <a:solidFill>
              <a:srgbClr val="00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STIMER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05480" y="2349360"/>
              <a:ext cx="230220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es moyens 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ttre en oeuvr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ormer formateu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téri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ocaux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crétari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élai 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040" y="4869000"/>
            <a:ext cx="7662600" cy="1216440"/>
            <a:chOff x="5040" y="4869000"/>
            <a:chExt cx="7662600" cy="1216440"/>
          </a:xfrm>
        </p:grpSpPr>
        <p:sp>
          <p:nvSpPr>
            <p:cNvPr id="153" name=""/>
            <p:cNvSpPr/>
            <p:nvPr/>
          </p:nvSpPr>
          <p:spPr>
            <a:xfrm>
              <a:off x="5040" y="5381640"/>
              <a:ext cx="3304800" cy="703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Quel  PLA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INSTITUTIONNEL 2007 ?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34920" y="4941720"/>
              <a:ext cx="360360" cy="358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667640" y="4869000"/>
              <a:ext cx="0" cy="865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3024360" y="5734080"/>
              <a:ext cx="4535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2C3C-06D4-4CD9-9E56-B3312CF7C3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66560" y="1268280"/>
            <a:ext cx="2376720" cy="648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OR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2960" y="2276640"/>
            <a:ext cx="4887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DRA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fournit les listes/dates réun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 possibilités de ré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 instit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 modalité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 possibilités de ré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ux besoins de formation des étudi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ux besoins de formation de formateu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 négociations nécess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 tarifs adapté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072040" y="1295280"/>
            <a:ext cx="3864240" cy="3587400"/>
            <a:chOff x="5072040" y="1295280"/>
            <a:chExt cx="3864240" cy="3587400"/>
          </a:xfrm>
        </p:grpSpPr>
        <p:sp>
          <p:nvSpPr>
            <p:cNvPr id="160" name=""/>
            <p:cNvSpPr/>
            <p:nvPr/>
          </p:nvSpPr>
          <p:spPr>
            <a:xfrm>
              <a:off x="5791320" y="1295280"/>
              <a:ext cx="2160360" cy="648000"/>
            </a:xfrm>
            <a:prstGeom prst="roundRect">
              <a:avLst>
                <a:gd name="adj" fmla="val 16667"/>
              </a:avLst>
            </a:prstGeom>
            <a:solidFill>
              <a:srgbClr val="00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CENS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72040" y="2349360"/>
              <a:ext cx="386424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e Moyens Départ./Rég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 réunir pour recenser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es  besoins institu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es moyens   CES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es moyens des autres C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es possibilités de réponses au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cteurs isolés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553760" y="404640"/>
            <a:ext cx="636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atégie Départementale/Région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23240" y="4869000"/>
            <a:ext cx="3094560" cy="1283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éseau d’enseign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 soins d’urge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ôle des CESU de C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DCB6-4A24-4873-A0EC-B430D56407B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7320" y="739800"/>
            <a:ext cx="55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 objectifs pédagogiques par niveau 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7840" y="1674720"/>
            <a:ext cx="382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lle validation AFGSU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49480" y="2467080"/>
            <a:ext cx="307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i forme à quoi ?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96040" y="4051440"/>
            <a:ext cx="467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lles priorités de formation? 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15680" y="3187800"/>
            <a:ext cx="523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lle  prise en compte des acquis?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7840" y="5132520"/>
            <a:ext cx="36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stratégie des CESU  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8413-CE8F-456F-8D1F-A3A1B8C333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44360" y="1268280"/>
            <a:ext cx="2843280" cy="648000"/>
          </a:xfrm>
          <a:prstGeom prst="roundRect">
            <a:avLst>
              <a:gd name="adj" fmla="val 16667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evoir 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ides  Pédagog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9800" y="2276640"/>
            <a:ext cx="31906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aciliter le démarr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n produisant des o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G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s conduct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ches de su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ches é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plôme 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eurs  Instit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s conducteurs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9440" y="2276640"/>
            <a:ext cx="32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7080" y="189000"/>
            <a:ext cx="3452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ôle A.N.C.E.S.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érer le RE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341240" y="1341360"/>
            <a:ext cx="4641840" cy="4727160"/>
            <a:chOff x="4341240" y="1341360"/>
            <a:chExt cx="4641840" cy="4727160"/>
          </a:xfrm>
        </p:grpSpPr>
        <p:sp>
          <p:nvSpPr>
            <p:cNvPr id="169" name=""/>
            <p:cNvSpPr/>
            <p:nvPr/>
          </p:nvSpPr>
          <p:spPr>
            <a:xfrm>
              <a:off x="4414680" y="1341360"/>
              <a:ext cx="4321440" cy="647640"/>
            </a:xfrm>
            <a:prstGeom prst="roundRect">
              <a:avLst>
                <a:gd name="adj" fmla="val 16667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GANIS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ES FORMATIONS Formateu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341240" y="2286000"/>
              <a:ext cx="4641840" cy="37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Préparer Formations Universitai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(D.I.U., attestation de suivi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Proposer des  Formations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Continu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s formateurs actuels aux AFGSU 1 2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programme en cour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Renforcer les régions  si nécessai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ôle du CH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F79F-CD7D-4718-856B-E4937A413F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551600" y="333360"/>
            <a:ext cx="566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SUS des FORMATEURS  C E S 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835280" y="5877000"/>
            <a:ext cx="453708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ORMATEURS ACTU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edecins, moniteurs , instructeu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372360" y="5877000"/>
            <a:ext cx="100800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.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V 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24720" y="5950080"/>
            <a:ext cx="1008000" cy="57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.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isq Col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3628400">
            <a:off x="-180360" y="5490000"/>
            <a:ext cx="2087640" cy="647640"/>
          </a:xfrm>
          <a:custGeom>
            <a:avLst/>
            <a:gdLst>
              <a:gd name="textAreaLeft" fmla="*/ 365400 w 2087640"/>
              <a:gd name="textAreaRight" fmla="*/ 1513800 w 208764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3628400">
            <a:off x="-324720" y="3427920"/>
            <a:ext cx="2087640" cy="647640"/>
          </a:xfrm>
          <a:custGeom>
            <a:avLst/>
            <a:gdLst>
              <a:gd name="textAreaLeft" fmla="*/ 365400 w 2087640"/>
              <a:gd name="textAreaRight" fmla="*/ 1513800 w 208764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00360" y="1197000"/>
            <a:ext cx="5543640" cy="576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STER ….DESS pédagogie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042920" y="1699920"/>
            <a:ext cx="1728720" cy="649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449440" y="2637000"/>
            <a:ext cx="121752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36800" y="2637000"/>
            <a:ext cx="121788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rg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ita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25960" y="2637000"/>
            <a:ext cx="121608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édagog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ener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15120" y="2637000"/>
            <a:ext cx="121752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édagog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02480" y="2637000"/>
            <a:ext cx="121752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y nam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rou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095720" y="3429000"/>
            <a:ext cx="121752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valu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83080" y="3429000"/>
            <a:ext cx="121788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édagog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ener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70560" y="2276640"/>
            <a:ext cx="206136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. I. 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édag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rg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que collect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868480" y="4581360"/>
            <a:ext cx="5806800" cy="990360"/>
            <a:chOff x="2868480" y="4581360"/>
            <a:chExt cx="5806800" cy="990360"/>
          </a:xfrm>
        </p:grpSpPr>
        <p:sp>
          <p:nvSpPr>
            <p:cNvPr id="188" name=""/>
            <p:cNvSpPr/>
            <p:nvPr/>
          </p:nvSpPr>
          <p:spPr>
            <a:xfrm>
              <a:off x="2868480" y="4581360"/>
              <a:ext cx="1265040" cy="98892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rgenc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ital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 j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918400" y="4581360"/>
              <a:ext cx="1266840" cy="99036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Urgenc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otentie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3j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356360" y="4581360"/>
              <a:ext cx="1265040" cy="98892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rgenc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ital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 j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08440" y="4581360"/>
              <a:ext cx="1266840" cy="99036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is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llecti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j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116000" y="460224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e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versit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 S 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3538080" y="5570280"/>
            <a:ext cx="44604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5003640" y="55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5076720" y="5516280"/>
            <a:ext cx="165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732720" y="551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1A46-9E21-439F-BAE2-0F2F2A70D0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32760" y="2276640"/>
            <a:ext cx="595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 objectifs par niveau 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2AF4-06E6-4618-B2ED-A594262FEA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193840" y="115920"/>
            <a:ext cx="483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LES OBJECTIFS     -    NIVEAU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981000"/>
            <a:ext cx="2881440" cy="792360"/>
          </a:xfrm>
          <a:prstGeom prst="ellips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RGENCE VITALE  6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040" y="4653000"/>
            <a:ext cx="2897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tection/Aler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ettre/coté Incons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ésobstruer 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rrêt hémorra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CP seul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2520" y="2413080"/>
            <a:ext cx="289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- </a:t>
            </a:r>
            <a:r>
              <a:rPr b="0" lang="fr-FR" sz="2000" spc="-1" strike="noStrike">
                <a:solidFill>
                  <a:srgbClr val="0000cc"/>
                </a:solidFill>
                <a:latin typeface="Arial"/>
              </a:rPr>
              <a:t>Protection 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Arial"/>
              </a:rPr>
              <a:t>Comp. Thoracique se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Arial"/>
              </a:rPr>
              <a:t>B à B en priv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Arial"/>
              </a:rPr>
              <a:t>D A E pour t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640" y="400536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ait actuel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0" y="1773360"/>
            <a:ext cx="328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FGSU spécifique 1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940360" y="1052640"/>
            <a:ext cx="3202560" cy="2610360"/>
            <a:chOff x="5940360" y="1052640"/>
            <a:chExt cx="3202560" cy="2610360"/>
          </a:xfrm>
        </p:grpSpPr>
        <p:sp>
          <p:nvSpPr>
            <p:cNvPr id="57" name=""/>
            <p:cNvSpPr/>
            <p:nvPr/>
          </p:nvSpPr>
          <p:spPr>
            <a:xfrm>
              <a:off x="5940360" y="1052640"/>
              <a:ext cx="3168720" cy="7920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ISQUE COLLECTIF  3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56960" y="2349360"/>
              <a:ext cx="26859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cc"/>
                  </a:solidFill>
                  <a:latin typeface="Arial"/>
                </a:rPr>
                <a:t>Plan blanc C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cc"/>
                  </a:solidFill>
                  <a:latin typeface="Arial"/>
                </a:rPr>
                <a:t>Plan sanitair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cc"/>
                  </a:solidFill>
                  <a:latin typeface="Arial"/>
                </a:rPr>
                <a:t>Sensibilisation NRB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cc"/>
                  </a:solidFill>
                  <a:latin typeface="Arial"/>
                </a:rPr>
                <a:t>   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2843280" y="981000"/>
            <a:ext cx="3173040" cy="5171040"/>
            <a:chOff x="2843280" y="981000"/>
            <a:chExt cx="3173040" cy="5171040"/>
          </a:xfrm>
        </p:grpSpPr>
        <p:sp>
          <p:nvSpPr>
            <p:cNvPr id="60" name=""/>
            <p:cNvSpPr/>
            <p:nvPr/>
          </p:nvSpPr>
          <p:spPr>
            <a:xfrm>
              <a:off x="2843280" y="981000"/>
              <a:ext cx="3024000" cy="79236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RG. POTENTIELLE  3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06200" y="4869000"/>
              <a:ext cx="2297160" cy="12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Malais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rauma.  osseu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rauma. Cutané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273840" y="2332080"/>
              <a:ext cx="274248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SP, SF précédan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détresse vita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-Trauma.  Os. succin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-Hygiène, prote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-Notion de relevage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DEE0-89D4-4D63-B730-41CD8AF9CA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33320" y="115920"/>
            <a:ext cx="483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LES OBJECTIFS     -    NIVEAU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836640"/>
            <a:ext cx="2881440" cy="79200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RGENCE VITALE +3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8000" y="4581360"/>
            <a:ext cx="561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tériel Urgence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lien catég. Prof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tério-vigilance 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sufflation ball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uto- rempl.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IDE AS M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tilisation DSA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IDE, Amb, Kiné,MER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7480" y="2389320"/>
            <a:ext cx="307764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993366"/>
                </a:solidFill>
                <a:latin typeface="Arial"/>
              </a:rPr>
              <a:t>DAE : t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993366"/>
                </a:solidFill>
                <a:latin typeface="Arial"/>
              </a:rPr>
              <a:t>Insufflation ballon :  t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993366"/>
                </a:solidFill>
                <a:latin typeface="Arial"/>
              </a:rPr>
              <a:t>Appareils surveil : t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3366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993366"/>
                </a:solidFill>
                <a:latin typeface="Arial"/>
              </a:rPr>
              <a:t>en  REF décrets pro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80" y="4005360"/>
            <a:ext cx="71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ait actuellement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ref  décret compétences professionnelles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640" y="1844640"/>
            <a:ext cx="328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AFGSU spécifique 2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940360" y="907920"/>
            <a:ext cx="3204000" cy="2682360"/>
            <a:chOff x="5940360" y="907920"/>
            <a:chExt cx="3204000" cy="2682360"/>
          </a:xfrm>
        </p:grpSpPr>
        <p:sp>
          <p:nvSpPr>
            <p:cNvPr id="70" name=""/>
            <p:cNvSpPr/>
            <p:nvPr/>
          </p:nvSpPr>
          <p:spPr>
            <a:xfrm>
              <a:off x="5940360" y="907920"/>
              <a:ext cx="3168720" cy="792360"/>
            </a:xfrm>
            <a:prstGeom prst="ellipse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ISQUE COLLECTIF+3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132240" y="2276640"/>
              <a:ext cx="30121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en-US" sz="2000" spc="-1" strike="noStrike">
                  <a:solidFill>
                    <a:srgbClr val="993366"/>
                  </a:solidFill>
                  <a:latin typeface="Arial"/>
                </a:rPr>
                <a:t>Plan blanc C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3366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993366"/>
                  </a:solidFill>
                  <a:latin typeface="Arial"/>
                </a:rPr>
                <a:t>Risque  NRB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3366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993366"/>
                  </a:solidFill>
                  <a:latin typeface="Arial"/>
                </a:rPr>
                <a:t>Habillage/Déshabillag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3366"/>
                  </a:solidFill>
                  <a:latin typeface="Arial"/>
                </a:rPr>
                <a:t>   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843280" y="836640"/>
            <a:ext cx="3070800" cy="3282480"/>
            <a:chOff x="2843280" y="836640"/>
            <a:chExt cx="3070800" cy="3282480"/>
          </a:xfrm>
        </p:grpSpPr>
        <p:sp>
          <p:nvSpPr>
            <p:cNvPr id="73" name=""/>
            <p:cNvSpPr/>
            <p:nvPr/>
          </p:nvSpPr>
          <p:spPr>
            <a:xfrm>
              <a:off x="2843280" y="836640"/>
              <a:ext cx="3024000" cy="79200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URG. POTENTIELLE+3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372840" y="2195640"/>
              <a:ext cx="254124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2000" spc="-1" strike="noStrike">
                  <a:solidFill>
                    <a:srgbClr val="993366"/>
                  </a:solidFill>
                  <a:latin typeface="Arial"/>
                </a:rPr>
                <a:t>Retrait cas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993366"/>
                  </a:solidFill>
                  <a:latin typeface="Arial"/>
                </a:rPr>
                <a:t> </a:t>
              </a:r>
              <a:r>
                <a:rPr b="0" lang="fr-FR" sz="2000" spc="-1" strike="noStrike">
                  <a:solidFill>
                    <a:srgbClr val="993366"/>
                  </a:solidFill>
                  <a:latin typeface="Arial"/>
                </a:rPr>
                <a:t>Pose collier/ attell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993366"/>
                  </a:solidFill>
                  <a:latin typeface="Arial"/>
                </a:rPr>
                <a:t> </a:t>
              </a:r>
              <a:r>
                <a:rPr b="0" lang="fr-FR" sz="2000" spc="-1" strike="noStrike">
                  <a:solidFill>
                    <a:srgbClr val="993366"/>
                  </a:solidFill>
                  <a:latin typeface="Arial"/>
                </a:rPr>
                <a:t>Accouch. inopiné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993366"/>
                  </a:solidFill>
                  <a:latin typeface="Arial"/>
                </a:rPr>
                <a:t> </a:t>
              </a:r>
              <a:r>
                <a:rPr b="0" lang="fr-FR" sz="2000" spc="-1" strike="noStrike">
                  <a:solidFill>
                    <a:srgbClr val="993366"/>
                  </a:solidFill>
                  <a:latin typeface="Arial"/>
                </a:rPr>
                <a:t>Relevag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993366"/>
                  </a:solidFill>
                  <a:latin typeface="Arial"/>
                </a:rPr>
                <a:t> </a:t>
              </a:r>
              <a:r>
                <a:rPr b="0" lang="fr-FR" sz="2000" spc="-1" strike="noStrike">
                  <a:solidFill>
                    <a:srgbClr val="993366"/>
                  </a:solidFill>
                  <a:latin typeface="Arial"/>
                </a:rPr>
                <a:t>Protection ris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993366"/>
                  </a:solidFill>
                  <a:latin typeface="Arial"/>
                </a:rPr>
                <a:t>   </a:t>
              </a:r>
              <a:r>
                <a:rPr b="0" lang="fr-FR" sz="2000" spc="-1" strike="noStrike">
                  <a:solidFill>
                    <a:srgbClr val="993366"/>
                  </a:solidFill>
                  <a:latin typeface="Arial"/>
                </a:rPr>
                <a:t>Infectieux +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02A8-6BC9-45BA-B1B4-64C0E922AA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35120" y="163440"/>
            <a:ext cx="406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ES OBJECTIFS     -    NIVEAU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981000"/>
            <a:ext cx="4176720" cy="792360"/>
          </a:xfrm>
          <a:prstGeom prst="ellipse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QUE COLLECTIF   9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0960" y="2395440"/>
            <a:ext cx="6432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quer les protocoles d’habillage/Déshabillage :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e au risque  N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e au risque B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10560" y="1197000"/>
            <a:ext cx="25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GSU spécifiqu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-2880" y="1963800"/>
            <a:ext cx="31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it actuellement sur  7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0840" y="4076640"/>
            <a:ext cx="7646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quer les protocoles de décontamination  :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îne de décontamination face au risque  N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îne de décontamin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e au risque  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6007-A082-474D-8DB0-329ADB7D9C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68720" y="2589120"/>
            <a:ext cx="49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LLE VALIDATION  AFGSU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3B03-3332-4255-AA05-F8EB37FBED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628000" y="333360"/>
            <a:ext cx="30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LLE VALIDATION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3440" y="1052640"/>
            <a:ext cx="879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rt  5  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Validation sommative  :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« basée sur l’évaluation  pratique de l’acquis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des gestes et comportements »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2565360"/>
            <a:ext cx="8815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voir assisté à la totalité de la 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voir réalisé tous les gestes techniques au cours des apprentiss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voir eu un comportement adapté au cours de mises en situ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360" y="198900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 critères proposé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9280" y="5181480"/>
            <a:ext cx="7750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ur Niveau 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évaluation  en équi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u moins deux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mises en situation sur une détresse vita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0360" y="4495680"/>
            <a:ext cx="734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ur Niveau 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évaluation individu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u moins un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mise en situation sur une détresse vi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36A1-4326-4F12-8D5B-3B34A04757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72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6645-5C95-4B3C-AE89-C233635EA1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1T16:07:00Z</dcterms:created>
  <dc:creator>Jéjé</dc:creator>
  <dc:description/>
  <dc:language>en-US</dc:language>
  <cp:lastModifiedBy>CHU RENNES</cp:lastModifiedBy>
  <dcterms:modified xsi:type="dcterms:W3CDTF">2006-05-30T08:11:58Z</dcterms:modified>
  <cp:revision>217</cp:revision>
  <dc:subject/>
  <dc:title>Diapositiv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113870534</vt:r8>
  </property>
  <property fmtid="{D5CDD505-2E9C-101B-9397-08002B2CF9AE}" pid="3" name="_AuthorEmail">
    <vt:lpwstr>Ghislaine.TANGUY@chu-rennes.fr</vt:lpwstr>
  </property>
  <property fmtid="{D5CDD505-2E9C-101B-9397-08002B2CF9AE}" pid="4" name="_AuthorEmailDisplayName">
    <vt:lpwstr>TANGUY Ghislaine</vt:lpwstr>
  </property>
  <property fmtid="{D5CDD505-2E9C-101B-9397-08002B2CF9AE}" pid="5" name="_EmailSubject">
    <vt:lpwstr>site web ancesu</vt:lpwstr>
  </property>
</Properties>
</file>